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063-F1B3-4330-AB48-6DA9AF09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B6C-F261-443B-9E9A-FD76234D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585-0051-40B6-AA3D-275B83BB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52A-909E-4686-B645-1ED061E8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641-4A7D-487D-B002-19BB4885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B44-CEFA-45D5-A01D-C48DC558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03F-0026-4A60-BA76-AB9202BF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08D-FCD1-4F1D-B5F1-E94D35F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374-DD44-416D-A563-5A87599E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245-FE9E-41E5-99F6-A0AD1282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068-0527-499A-A669-A228F96F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29E-CAFA-4C15-A70A-A71E50B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DF38-CFAF-4E15-904A-C007F269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081080"/>
            <a:ext cx="7162920" cy="52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62320" y="4876920"/>
            <a:ext cx="1143000" cy="459720"/>
          </a:xfrm>
          <a:prstGeom prst="rect">
            <a:avLst/>
          </a:prstGeom>
          <a:solidFill>
            <a:srgbClr val="ffff99">
              <a:alpha val="43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22:23:47Z</dcterms:created>
  <dc:creator>testteacher</dc:creator>
  <dc:description/>
  <dc:language>en-US</dc:language>
  <cp:lastModifiedBy>testteacher</cp:lastModifiedBy>
  <dcterms:modified xsi:type="dcterms:W3CDTF">2009-04-22T22:25:59Z</dcterms:modified>
  <cp:revision>1</cp:revision>
  <dc:subject/>
  <dc:title>Slide 1</dc:title>
</cp:coreProperties>
</file>